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093E-472C-4C7D-B34C-B9F82E49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2AD8-C278-4238-9F8A-A2E9D428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8E29-8768-435A-94D5-5D7832B9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D1F-6A4D-408C-A047-6777D1FA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1F3A-BBF2-4BE2-A0D6-376C16C7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75F-C2D5-4D41-BDF6-AF3E3824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F8C8-9176-4ACE-AA08-7CF5CC7C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7A89-6CCB-47C3-BB02-2084978F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F96-5068-4A18-AB1F-27F9283B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4F2-D647-4C9A-8EDF-B701875B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4DE6-E795-4E3D-85BF-7EDF66F8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E9C-D8A7-46AB-A14B-6A32F602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083D-7F09-4F18-B1C0-F7E7E2E9082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1 DEPONENT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214200" y="1214280"/>
            <a:ext cx="5572080" cy="51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arse the following (all are deponent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ρχον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λογιζετ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συνηρχομη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ρνησαμεν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εξε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ἁπτ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εἰσερχομενο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ργαζομεν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σπαζεσθ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3000240" y="2008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Indicativ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3000240" y="2475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erfect Indicativ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3000240" y="29685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erfect Indicative 1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3000240" y="345276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Participle Singular (masculine nomin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3000240" y="39117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uture Indicativ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3000240" y="43974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Imperative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3000240" y="490068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 Participle Plural (masculine nomin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3000240" y="5386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 Participle Singular (masculine nomin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5"/>
          <p:cNvSpPr/>
          <p:nvPr/>
        </p:nvSpPr>
        <p:spPr>
          <a:xfrm>
            <a:off x="3000240" y="5869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Indicative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ural or Present Imperative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1 DEPONENT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214200" y="1643040"/>
            <a:ext cx="764388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the following verbs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ω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ρχ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g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χ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erfect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ρχ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Masc. Nom. Pl. Parti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ραφ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uture 1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6500880" y="24400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6500880" y="2986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ρχετ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6497640" y="3544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δεχεσθ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6500880" y="40971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ρξαμενο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6500880" y="46324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ραψο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3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1 DEPONENT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214200" y="1643040"/>
            <a:ext cx="764388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the following verbs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ξερχομαι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Imperative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ογιζ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ιθ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Masc. Nom. Sing. Parti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ευχ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Infin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ρνε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erfect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6500880" y="24400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6500880" y="2986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ρχετ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6497640" y="3544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δεχεσθ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6500880" y="40971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ρξαμενο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6500880" y="46324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ραψο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244440" y="1262160"/>
            <a:ext cx="511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ρχονται εἰς το ἱε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ελω ῥυσασθαι αὐτον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χεσθε τον λογ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σαντες ἠρξαντο ἐρχεσθ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ερχομενος ἐδοξαζεν τον θε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ελλω προσευχεσθαι λεγων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4572000" y="19270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are coming into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4572000" y="26766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ish to rescue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572000" y="339264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(pl.) are receiving the word.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‘Receive the word!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4572000" y="41292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they heard, they began to 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4572000" y="485460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 he was leaving, he was glorifying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4572000" y="558972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am about to pray, say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44440" y="126216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Ἰουδαιοι ἐξερχονται ἐ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4572000" y="19270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Jews are leaving 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4572000" y="27874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not preach the good new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572000" y="341460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Φαρισαιοι ἠρξαντο  ἐργασασθαι (ἐργαζεσθα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4572000" y="46404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σπαζοντο τους πονηρου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572000" y="525312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ρνησομαι τηρειν τον νομ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4572000" y="58658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ι εἰσερχεσθαι εἰς το ἱε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558360" y="2049480"/>
            <a:ext cx="21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ς συναγωγ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244440" y="2500200"/>
            <a:ext cx="45720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η εὐαγγελιζεσθ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harisees began to work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ere greeting the wicked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ill refuse to keep the law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is necessary to go into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4440" y="77760"/>
            <a:ext cx="862812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2 IMPERFECT, FUTURE AND OTHER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ODS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μ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14200" y="1285920"/>
            <a:ext cx="614376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ἁγιαι ἠσαν αἱ ἐντολ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αυιδ ἠν μεγ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ελω εἰναι μετ’ αὐτ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φιλων θεον ἐσται μακαρι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ηυχετο ὠν ἁγι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hildren were al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laves will be d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ing Jewish, we wish to 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303800" y="18032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ommandments were ho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300560" y="23716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vid was gre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300560" y="29145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ish to be with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4286160" y="3462480"/>
            <a:ext cx="51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one who loves God will be bl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4286160" y="4017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ing holy, he was pra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4286160" y="4465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α τεκνα ἠν μον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4286160" y="4921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νεκροι ἐσονται οἱ δουλο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4286160" y="5391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ουδαιοι ὀντες θελομεν εἰσερχεσθαι εἰς την συναγωγ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4444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8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NOUNS OF CONFUSING GEND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71280" y="1211400"/>
            <a:ext cx="64296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μαθηται αὐτου ἐρχον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εγεν τῳ Ἰουδ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δελφος δεξεται τον Ἰωαννη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οι στρατιωται προσηρχον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4786200" y="21160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s disciples are going/co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4786200" y="27226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was speaking to Ju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4786200" y="33386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rother will receive Joh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4786200" y="3956040"/>
            <a:ext cx="47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soldiers w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71280" y="469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was proclaiming the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4786200" y="4813200"/>
            <a:ext cx="385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ησους ἐκηρυσσεν την ὁδ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125640" y="5548320"/>
            <a:ext cx="39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ophets were not h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4786200" y="5640480"/>
            <a:ext cx="5072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προφηται οὐκ ἠσαν ἁγιο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2:20:43Z</dcterms:created>
  <dc:creator>Sarah</dc:creator>
  <dc:description/>
  <dc:language>en-US</dc:language>
  <cp:lastModifiedBy>Sarah</cp:lastModifiedBy>
  <dcterms:modified xsi:type="dcterms:W3CDTF">2008-09-07T14:37:13Z</dcterms:modified>
  <cp:revision>58</cp:revision>
  <dc:subject/>
  <dc:title>Slide 1</dc:title>
</cp:coreProperties>
</file>